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10C8-EF08-443E-8CB6-C6CBB075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DBD3-3F92-453F-B7B5-E9DE8C22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5034-C95F-4A0F-850D-F1BB6111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43B7-0E30-4E08-BBDC-E292DE4B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C257-FF9D-4E1A-9162-2E96B0D0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589B-181D-42BC-A19A-FBF9BB3C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0BFA-A38A-4611-AF1B-E4BA79DA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6E8-C8C4-483C-AA27-22FC8996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DEC3-2C90-4E8E-9BF3-833AC6C3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9CA5-F56F-4167-8F65-B6F14F91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5ACA-AC43-4010-8669-F9891C9B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1AC7-D749-46CD-A3C4-2DBF2DDC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3AAB-5A6E-40DA-A1FF-C69C0CA1E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8120" y="13716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440" y="13716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15000" y="13716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4120" y="13716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3716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0574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1148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7432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20574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7432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41148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34290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0574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20574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41148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4290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7432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20574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20574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440" y="20574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24680" y="20574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924680" y="34290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924680" y="27432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440" y="27432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27432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7432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27432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34290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924680" y="41148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34290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440" y="41148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440" y="34290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41148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4120" y="34290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41148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41148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33520"/>
            <a:ext cx="3048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ctions prév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3716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533520"/>
            <a:ext cx="114156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440" y="533520"/>
            <a:ext cx="3811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ctions à entreprend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8006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4864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1722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48006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54864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48006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4864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61722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24680" y="48006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440" y="48006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48006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8006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8006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24680" y="54864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440" y="54864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54864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54864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54864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924680" y="61722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440" y="61722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61722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24680" y="13716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BLEAU DES AL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3716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13716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13716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91440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91440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914400"/>
            <a:ext cx="3794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533520"/>
            <a:ext cx="3808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533520"/>
            <a:ext cx="11415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440" y="914400"/>
            <a:ext cx="1830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é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914400"/>
            <a:ext cx="19814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é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533520"/>
            <a:ext cx="15238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é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ossi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6-08-03T09:25:16Z</dcterms:modified>
  <cp:revision>71</cp:revision>
  <dc:subject/>
  <dc:title>Contrôle interne des risques</dc:title>
</cp:coreProperties>
</file>